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7.png" ContentType="image/png"/>
  <Override PartName="/ppt/media/image9.png" ContentType="image/png"/>
  <Override PartName="/ppt/media/image30.jpeg" ContentType="image/jpeg"/>
  <Override PartName="/ppt/media/image2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9.png" ContentType="image/png"/>
  <Override PartName="/ppt/media/image21.jpeg" ContentType="image/jpeg"/>
  <Override PartName="/ppt/media/image24.jpeg" ContentType="image/jpeg"/>
  <Override PartName="/ppt/media/image2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BDE-F172-4DCC-BD7D-CEB3B01F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55A6-0EFE-4D92-AC0A-58D19672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957F8-F9C1-4D7A-81B2-960EE81C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9F8FF-46B0-485A-A0F5-4D1D4322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478EC-0CD0-468F-9BDE-BD797D16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5C7E5-0777-49EA-BE41-4A7B96D3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23671-1DB7-4860-B814-E51EE0C4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8576C-BE7E-46FB-ABE8-C2866065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0EB6B-D469-4D3A-B3E0-AFE22E8F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47BD0-358B-4C9C-82BF-4596E471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815FB-D5F6-4E1C-AD4F-AE54A00E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4C8573-7B6D-44F1-BEBD-4E6189F12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098-0F0B-450D-ADA2-9FE1A941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8AA7A-44EB-42F4-BEB0-44A3FD4A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905FE-94F0-4470-8CC6-859CD207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50CE0-4CCC-4627-9ACD-EE03BE58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97438-C50C-4FA8-915C-34B3C0E9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8DF7F-BD49-4464-A368-F75B93F2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00ED5-68D4-49FF-848B-FC191D3C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CA076-9D3D-4324-AB43-D585B97A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DF4A9-2A28-4769-A5AF-6A436852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4A9E5-49AA-4D2F-9AF7-16A6D20D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3A038-F844-4BB9-BF15-EAC04C65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0C97-0F34-41C2-BC4E-82F5837F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8D2FEB-3CFA-4DC9-81D6-96DB7BF3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1284D-36FF-476C-BCBA-90CA951A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43910-FEB4-4C29-A1AA-DCB2C402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F409D-4984-4E55-9A7D-A1711855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ED9F7-D7FA-470B-89E5-AC5971C9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2702F-14F3-43A9-AC5D-A1124D48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3142B-1149-45E9-9B54-044755F0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57F8D-7982-4D77-B56A-6233DF99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D04B1-805E-456A-9C0E-6F68242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B05AD-454F-491D-B9E0-58362E7E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9FCF-351E-4088-ABE2-2647E4518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D1453-D1F8-4394-9963-F2254655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A46869-02F8-4EFE-8B0A-95E6292D7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892FA-AA2E-48DA-99BF-1E43278B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B70541-42E3-4365-A5E3-9235D799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BB2E10-FD1E-4BDE-BC88-4A47AFE0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290B8-7CC1-47A8-9A9F-80CB901A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DAD4B6-4814-445E-BE6F-D01BAE18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E246F-00DD-4B9F-892C-B17F2E78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43B43-A5C8-4CC2-A438-FA009D0A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C1674-DD4A-46BB-8F68-0A46192F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D8B8-11EE-4290-8E90-D488FFC3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2D4D4-9532-4D6B-AF5B-E876BCA2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140F5-0512-4784-BA34-982989D6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AC4334-3DD4-4697-B089-FF24308A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D5DA0-3DC0-44E9-88C5-CB828A7E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D9E29-8137-49F1-9B4F-036BCE56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F2A2F-38D7-499F-A955-E80A5F17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078253-A46F-41C3-8A36-D6809F52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90690-9864-452C-87DD-840CA141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BE9B1-456E-458E-9CAF-F77E7BDD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C39E2-FC43-4524-9063-85663068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D2EA-4F12-4ECF-B1AC-C777B2B3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A0AFD-2F7D-4F14-B932-8C35A61D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977DC-D756-49CF-B42C-FD62D82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39483C-DC80-4545-95F4-7FBF8BBE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0E3E4-9025-4BEF-9E5B-BA48D508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DE9C0-65E6-4622-A86B-17ECDDFC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A481B-0710-404F-A953-B9D7092E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338A1E-DC64-4307-9B00-85DBDF9B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8CCE5B-EFFC-4DB6-8615-54A6DA01E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7EBCDF-BDDF-4DEA-8626-A56EEBC9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67D436-C5FD-439E-BB3E-672DF39B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47E3-FDEE-4A61-8E8D-5200FCCA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086C8-E61D-4EE4-A3FA-CA53BFD4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78F6C1-04A0-445D-A0AC-E5D96D81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666FDF-9ECD-47BB-9AAF-CF1B57FB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420D5-FD82-4B9E-89EC-6340F67F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7DC44-BF42-44EB-B993-4AB4EA65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3A4F4-A35B-425D-B3D1-0A4EB5EB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C2AEE-53DB-49F3-A561-850467023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64287C-5703-4FC1-AF32-44FF56AA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A242E-E2B1-475D-82DB-73562FB92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1976-EC67-4124-9ED3-0488F072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DCFE-A974-491F-A62E-760B14CD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8E0F7-D3D5-4239-A603-1DB5025A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4EB-5592-4316-AC69-C53E6D05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3563-C3EA-4AC4-A1FA-CBF8F578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F6E1-6F85-4068-B195-F89B4ED9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94C2-7F2D-4274-8073-31495729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0465-BD88-4637-A889-49931A31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80A8-2859-42F4-9E22-BBC22B1C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33A50-1F05-47AA-BE61-C1FFAC25A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B5DC-B12E-4B74-90A5-5DBE8D42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CDB43-1534-4303-BFC8-430F2F5E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98A69-F297-467B-9922-D48A7A8E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32BE7-D675-4F0D-BA9D-6030E341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8F70-FA16-4577-A0FC-E71F50B5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EE243-91D5-4D7E-8BBE-BD5FC550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7061-FEE2-446C-9DF6-D36C87A2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E6660-A831-4DE3-B5A7-7EFA4F81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AFD24-2DE3-49A9-87DD-FE60F95A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928A4-58E4-41CB-91B6-E2C51B22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E18A8-5117-4978-A6D8-3B722660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E738-62C4-4AD4-AA17-4A897185C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17E9A-D5AA-4182-9BAA-3F7E0260C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F6457-7F00-47C8-8302-496032805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BD9AE-2118-44CB-82B1-AE8F87C9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0A7-FC42-4AB6-94A6-9E75B855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B434F-EE67-465E-8F2F-12B64116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12AFA-A711-41A6-A0BB-22B68896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BBBBC-3E94-4C60-BEE3-AC330FAF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914C-BEFD-4A16-9506-725CDE6F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86FF9-4A9F-461C-BD47-C9486D8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89E1-BFAC-4D0A-B662-4A7ED74A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5DFE-0A77-44E7-8FFD-F226662C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7A358-D45F-41DA-A812-CB94B75AC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B2CBD-4524-40A8-89CB-DE9BF71A6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B6CB9-CC56-4672-944B-DF6C6148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A510-947E-4FCF-AA36-1ACBCB027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EEFF0-B672-4094-80DA-CA0B4E35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D61220-FED4-4542-A4E6-52E4B360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550F1-74B1-4FFD-8815-1CE2834D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601F4-C5CC-4AF8-A2AA-A8B8360D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1FBD4-6640-4FCB-A930-98A0EA28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901C7-F30C-431C-958E-0B72C7A0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171D0-B7EC-418F-9B62-4BA6527E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1EA1-9CEA-4A44-9B04-B1FA5843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F6304-8FD0-4C3B-B3B3-F9D88A47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1E135-6387-4215-9CC5-A1B6F2FF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D778-C45B-449B-BDB4-2221C368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1FC4C1-4669-48DD-AD4E-2E60F6F6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810DD-C8AF-40FA-905B-2EF49A47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00DF5-B999-4246-9A26-8B052195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6806E-78BD-417C-AFE5-1FB88F65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107EA-8A2F-4F9E-A6D2-E7DB2E11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7EBBC-27FC-4F93-82AE-F1CEBE30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8DA97-AB17-426F-A45F-4697893A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B7D02-DF70-451E-A17F-49ED0CFE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ED01C-5319-4E3D-A29A-3628246A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6EDB7-A662-4541-A7AD-C691657E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53E1-9665-40C6-A4BA-3270820C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D3E58-B582-45C4-89A0-BEA7A0CF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D24B4-0A16-4FA6-B137-C5E0C768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48D20-1EE7-48BC-9BA6-60F3CF7C7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A1A39-E053-4866-A314-4BD4F69E6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6B673-8AFA-4B88-B4FD-5D4C06E1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E0CCE-CAEC-495E-9A46-17A815B9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7346A-71D2-408C-9352-A450CBC7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9959B-C34A-45AA-A1CD-E8523F3E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E83CD-1065-4E73-99AA-4D0D0616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5EE8E-EDCF-4A26-BBED-402E72BC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B45-A2D9-4F2B-A4EB-FFD3EE33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4AE33-F6AD-4AF8-857E-5D31F0E1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D1046-3C3B-4C06-B1FD-BDFB2214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CE0AC-62C7-4D13-875A-DC66CBBB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F59EC-28F1-4D6A-9D99-3E6A87B8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557F5-F95F-4CE2-97A9-A6E50A23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904CA-74D6-480D-8796-33ABA1EC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2041B-601D-4151-B44D-F42262E5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41C16-F259-47B0-9337-37C62C1C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13BBB-E57D-4FE9-8612-02B81CDB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20352-7E9F-4771-A7B7-7733EB78B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52C-1B85-43C7-93FA-18D5C6D6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0D383-8EEF-47F6-B5BB-EC661347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8F880-3F32-443A-9D57-FC54A243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9BA64-4DFA-4527-AB24-1C9FEC59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FD901-348A-4CAC-8A1E-1D8743F4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0ABA82-6CF1-4713-B749-BF4A56A0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B6922-15A5-49C6-8342-84CE1ACA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04F5D-0DCF-4EF0-B566-24C73DC1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0E231-9ED6-41C2-BA33-12A1D1C9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A8424-13FA-41CD-8542-922E4990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48B4E-EF8C-4417-8BA3-FD0D805C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FC07-68D2-47CF-ACD0-77E7CF9A48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04F7-126C-46A1-A08F-BE4E9AA607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F263-CAD0-4808-AEB6-738AD98716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A0F8-CF8E-4368-A715-822303DA03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B7D2-2818-4DDB-95C4-AD47739150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4FD7-4BA2-4839-83B4-A39D2C29E73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A0B2-090A-48DE-B206-3CEFB0305B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1D6D-5F3C-46B1-A41F-E326C77DD4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CCE0-DB7B-4BF2-A2A5-8CBB273980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D3E1-880E-4A3A-928F-0DF9E1D952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0621-0236-4B9A-952D-58273F3CFA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DF3A-730F-4ABC-ADBF-9212399B7D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9B5D-7BAE-4F46-843A-0489976797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5EE1-72D7-4308-8964-55B0A8D3FD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523880" y="0"/>
            <a:ext cx="634392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Rectangle 3"/>
          <p:cNvSpPr/>
          <p:nvPr/>
        </p:nvSpPr>
        <p:spPr>
          <a:xfrm>
            <a:off x="0" y="64904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каких исторических событий начались времена Московского государства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WordArt 2"/>
          <p:cNvSpPr txBox="1"/>
          <p:nvPr/>
        </p:nvSpPr>
        <p:spPr>
          <a:xfrm>
            <a:off x="2743200" y="4572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7" name="Picture 3" descr="krestyanin"/>
          <p:cNvPicPr/>
          <p:nvPr/>
        </p:nvPicPr>
        <p:blipFill>
          <a:blip r:embed="rId3"/>
          <a:stretch/>
        </p:blipFill>
        <p:spPr>
          <a:xfrm>
            <a:off x="1981080" y="1219320"/>
            <a:ext cx="6120000" cy="4694040"/>
          </a:xfrm>
          <a:prstGeom prst="rect">
            <a:avLst/>
          </a:prstGeom>
          <a:ln w="0">
            <a:noFill/>
          </a:ln>
        </p:spPr>
      </p:pic>
      <p:sp>
        <p:nvSpPr>
          <p:cNvPr id="618" name="Rectangle 5"/>
          <p:cNvSpPr/>
          <p:nvPr/>
        </p:nvSpPr>
        <p:spPr>
          <a:xfrm>
            <a:off x="0" y="5693040"/>
            <a:ext cx="3505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Сообщение по плану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Как называется групп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жил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Чем занимались люди этой группы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Значение группы для государ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WordArt 2"/>
          <p:cNvSpPr txBox="1"/>
          <p:nvPr/>
        </p:nvSpPr>
        <p:spPr>
          <a:xfrm>
            <a:off x="2209680" y="457200"/>
            <a:ext cx="297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бояр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0" name="Picture 5" descr="mod67_1_9"/>
          <p:cNvPicPr/>
          <p:nvPr/>
        </p:nvPicPr>
        <p:blipFill>
          <a:blip r:embed="rId3"/>
          <a:stretch/>
        </p:blipFill>
        <p:spPr>
          <a:xfrm>
            <a:off x="228600" y="2286000"/>
            <a:ext cx="4809960" cy="30481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6" descr=""/>
          <p:cNvPicPr/>
          <p:nvPr/>
        </p:nvPicPr>
        <p:blipFill>
          <a:blip r:embed="rId4"/>
          <a:stretch/>
        </p:blipFill>
        <p:spPr>
          <a:xfrm>
            <a:off x="5105520" y="1676520"/>
            <a:ext cx="38811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WordArt 2"/>
          <p:cNvSpPr txBox="1"/>
          <p:nvPr/>
        </p:nvSpPr>
        <p:spPr>
          <a:xfrm>
            <a:off x="2286000" y="3808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воряне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3" name="Picture 3" descr="ris014"/>
          <p:cNvPicPr/>
          <p:nvPr/>
        </p:nvPicPr>
        <p:blipFill>
          <a:blip r:embed="rId3"/>
          <a:stretch/>
        </p:blipFill>
        <p:spPr>
          <a:xfrm>
            <a:off x="2286000" y="1495440"/>
            <a:ext cx="39816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WordArt 2"/>
          <p:cNvSpPr txBox="1"/>
          <p:nvPr/>
        </p:nvSpPr>
        <p:spPr>
          <a:xfrm>
            <a:off x="2362320" y="5335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ельцы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5" name="Picture 4" descr="strelec2s"/>
          <p:cNvPicPr/>
          <p:nvPr/>
        </p:nvPicPr>
        <p:blipFill>
          <a:blip r:embed="rId3"/>
          <a:stretch/>
        </p:blipFill>
        <p:spPr>
          <a:xfrm>
            <a:off x="4572000" y="1371600"/>
            <a:ext cx="4191120" cy="463248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4"/>
          <a:stretch/>
        </p:blipFill>
        <p:spPr>
          <a:xfrm>
            <a:off x="228600" y="1371600"/>
            <a:ext cx="4176720" cy="464832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6"/>
          <p:cNvSpPr/>
          <p:nvPr/>
        </p:nvSpPr>
        <p:spPr>
          <a:xfrm>
            <a:off x="1872360" y="647568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Какие категории граждан населяли Московское государство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371600" y="152280"/>
            <a:ext cx="62485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фрагмент памятника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у Федорову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9" name="Picture 3" descr="6"/>
          <p:cNvPicPr/>
          <p:nvPr/>
        </p:nvPicPr>
        <p:blipFill>
          <a:blip r:embed="rId5"/>
          <a:stretch/>
        </p:blipFill>
        <p:spPr>
          <a:xfrm>
            <a:off x="1905120" y="1523880"/>
            <a:ext cx="5340240" cy="45007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-2160" y="6216840"/>
            <a:ext cx="856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О каком замечательном научном изобретении прочитали? Кому оно принадлежит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Подумайте, какое значение имело для жителей Московского государства начало книгопечатания?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2"/>
          <p:cNvSpPr txBox="1"/>
          <p:nvPr/>
        </p:nvSpPr>
        <p:spPr>
          <a:xfrm>
            <a:off x="349200" y="304920"/>
            <a:ext cx="4267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а "Апостола"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32" name="Picture 3" descr="апостол"/>
          <p:cNvPicPr/>
          <p:nvPr/>
        </p:nvPicPr>
        <p:blipFill>
          <a:blip r:embed="rId3"/>
          <a:stretch/>
        </p:blipFill>
        <p:spPr>
          <a:xfrm>
            <a:off x="304920" y="1523880"/>
            <a:ext cx="3238560" cy="511344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5" descr="азбука"/>
          <p:cNvPicPr/>
          <p:nvPr/>
        </p:nvPicPr>
        <p:blipFill>
          <a:blip r:embed="rId4"/>
          <a:stretch/>
        </p:blipFill>
        <p:spPr>
          <a:xfrm>
            <a:off x="3657600" y="2438280"/>
            <a:ext cx="5181480" cy="4213440"/>
          </a:xfrm>
          <a:prstGeom prst="rect">
            <a:avLst/>
          </a:prstGeom>
          <a:ln w="0">
            <a:noFill/>
          </a:ln>
        </p:spPr>
      </p:pic>
      <p:sp>
        <p:nvSpPr>
          <p:cNvPr id="634" name="WordArt 6"/>
          <p:cNvSpPr txBox="1"/>
          <p:nvPr/>
        </p:nvSpPr>
        <p:spPr>
          <a:xfrm>
            <a:off x="4343400" y="144792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траницы "Азбуки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7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Задание на дом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я № 34, 37 в рабочей тетра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полнительно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ть об отдыхе и труде основных слоев населения Московского государства в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VI-XVII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7" descr="andrei_rublev"/>
          <p:cNvPicPr/>
          <p:nvPr/>
        </p:nvPicPr>
        <p:blipFill>
          <a:blip r:embed="rId1"/>
          <a:stretch/>
        </p:blipFill>
        <p:spPr>
          <a:xfrm>
            <a:off x="420840" y="189000"/>
            <a:ext cx="3522600" cy="4419360"/>
          </a:xfrm>
          <a:prstGeom prst="rect">
            <a:avLst/>
          </a:prstGeom>
          <a:ln w="0">
            <a:noFill/>
          </a:ln>
        </p:spPr>
      </p:pic>
      <p:sp>
        <p:nvSpPr>
          <p:cNvPr id="593" name="WordArt 8"/>
          <p:cNvSpPr txBox="1"/>
          <p:nvPr/>
        </p:nvSpPr>
        <p:spPr>
          <a:xfrm>
            <a:off x="228600" y="4724280"/>
            <a:ext cx="41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Андрей Рублёв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990720" y="5486400"/>
            <a:ext cx="2438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живописе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5" name="Picture 3" descr="8_1"/>
          <p:cNvPicPr/>
          <p:nvPr/>
        </p:nvPicPr>
        <p:blipFill>
          <a:blip r:embed="rId4"/>
          <a:stretch/>
        </p:blipFill>
        <p:spPr>
          <a:xfrm>
            <a:off x="4840200" y="2243160"/>
            <a:ext cx="3511800" cy="4352760"/>
          </a:xfrm>
          <a:prstGeom prst="rect">
            <a:avLst/>
          </a:prstGeom>
          <a:ln w="0">
            <a:noFill/>
          </a:ln>
        </p:spPr>
      </p:pic>
      <p:sp>
        <p:nvSpPr>
          <p:cNvPr id="596" name="WordArt 2"/>
          <p:cNvSpPr txBox="1"/>
          <p:nvPr/>
        </p:nvSpPr>
        <p:spPr>
          <a:xfrm>
            <a:off x="4419720" y="914400"/>
            <a:ext cx="4176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кона "Троица"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WordArt 2"/>
          <p:cNvSpPr txBox="1"/>
          <p:nvPr/>
        </p:nvSpPr>
        <p:spPr>
          <a:xfrm>
            <a:off x="4572000" y="1066680"/>
            <a:ext cx="4572000" cy="109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ергий Радонежский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98" name="Picture 3" descr="file23at26"/>
          <p:cNvPicPr/>
          <p:nvPr/>
        </p:nvPicPr>
        <p:blipFill>
          <a:blip r:embed="rId3"/>
          <a:stretch/>
        </p:blipFill>
        <p:spPr>
          <a:xfrm>
            <a:off x="228600" y="76212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4"/>
          <p:cNvSpPr/>
          <p:nvPr/>
        </p:nvSpPr>
        <p:spPr>
          <a:xfrm>
            <a:off x="5029200" y="2590920"/>
            <a:ext cx="370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атель и настоятель Троице-Сергиева монастыр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WordArt 2"/>
          <p:cNvSpPr txBox="1"/>
          <p:nvPr/>
        </p:nvSpPr>
        <p:spPr>
          <a:xfrm>
            <a:off x="0" y="533520"/>
            <a:ext cx="5029200" cy="124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Дмитрий Донской</a:t>
            </a:r>
            <a:endParaRPr b="1" lang="en-US" sz="1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04920" y="2438280"/>
            <a:ext cx="43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 и Владимирский, сын Ивана 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2" name="Picture 5" descr=""/>
          <p:cNvPicPr/>
          <p:nvPr/>
        </p:nvPicPr>
        <p:blipFill>
          <a:blip r:embed="rId3"/>
          <a:stretch/>
        </p:blipFill>
        <p:spPr>
          <a:xfrm>
            <a:off x="5029200" y="609480"/>
            <a:ext cx="3765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WordArt 2"/>
          <p:cNvSpPr txBox="1"/>
          <p:nvPr/>
        </p:nvSpPr>
        <p:spPr>
          <a:xfrm>
            <a:off x="152280" y="457200"/>
            <a:ext cx="8839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Иван III Васильевич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4" name="Picture 3" descr="ioann3Russ_001"/>
          <p:cNvPicPr/>
          <p:nvPr/>
        </p:nvPicPr>
        <p:blipFill>
          <a:blip r:embed="rId3"/>
          <a:stretch/>
        </p:blipFill>
        <p:spPr>
          <a:xfrm>
            <a:off x="304920" y="1371600"/>
            <a:ext cx="4400280" cy="489600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4"/>
          <p:cNvSpPr/>
          <p:nvPr/>
        </p:nvSpPr>
        <p:spPr>
          <a:xfrm>
            <a:off x="4788000" y="1700280"/>
            <a:ext cx="4356000" cy="42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ий князь Московский, сын Васили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нем сложилось единое Российское государство, было свергнуто монголо-татарское иго</a:t>
            </a:r>
            <a:r>
              <a:rPr b="1" lang="ru-RU" sz="3200" spc="-1" strike="noStrike">
                <a:solidFill>
                  <a:srgbClr val="ffffff"/>
                </a:solidFill>
                <a:latin typeface="CyrillicGoth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WordArt 2"/>
          <p:cNvSpPr txBox="1"/>
          <p:nvPr/>
        </p:nvSpPr>
        <p:spPr>
          <a:xfrm>
            <a:off x="5562720" y="457200"/>
            <a:ext cx="33382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</a:t>
            </a:r>
            <a:endParaRPr b="1" lang="en-US" sz="4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внутри </a:t>
            </a:r>
            <a:endParaRPr b="1" lang="en-US" sz="4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7" name="Picture 4" descr="home"/>
          <p:cNvPicPr/>
          <p:nvPr/>
        </p:nvPicPr>
        <p:blipFill>
          <a:blip r:embed="rId5"/>
          <a:srcRect l="0" t="0" r="0" b="1058"/>
          <a:stretch/>
        </p:blipFill>
        <p:spPr>
          <a:xfrm>
            <a:off x="228600" y="228600"/>
            <a:ext cx="5197320" cy="32767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3" descr="alapaevsk9"/>
          <p:cNvPicPr/>
          <p:nvPr/>
        </p:nvPicPr>
        <p:blipFill>
          <a:blip r:embed="rId6"/>
          <a:stretch/>
        </p:blipFill>
        <p:spPr>
          <a:xfrm>
            <a:off x="3886200" y="3276720"/>
            <a:ext cx="5033880" cy="332244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6"/>
          <p:cNvSpPr/>
          <p:nvPr/>
        </p:nvSpPr>
        <p:spPr>
          <a:xfrm>
            <a:off x="0" y="6250320"/>
            <a:ext cx="396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Рассмотрите избу, её убранство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Опишите, как выглядит изба внутр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08220214"/>
          <p:cNvPicPr/>
          <p:nvPr/>
        </p:nvPicPr>
        <p:blipFill>
          <a:blip r:embed="rId1"/>
          <a:stretch/>
        </p:blipFill>
        <p:spPr>
          <a:xfrm>
            <a:off x="228600" y="228600"/>
            <a:ext cx="4626000" cy="3467160"/>
          </a:xfrm>
          <a:prstGeom prst="rect">
            <a:avLst/>
          </a:prstGeom>
          <a:ln w="0">
            <a:noFill/>
          </a:ln>
        </p:spPr>
      </p:pic>
      <p:sp>
        <p:nvSpPr>
          <p:cNvPr id="611" name="WordArt 3"/>
          <p:cNvSpPr txBox="1"/>
          <p:nvPr/>
        </p:nvSpPr>
        <p:spPr>
          <a:xfrm>
            <a:off x="4967280" y="762120"/>
            <a:ext cx="4176720" cy="166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крестьянская изба </a:t>
            </a:r>
            <a:endParaRPr b="1" lang="en-US" sz="1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2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снаружи</a:t>
            </a:r>
            <a:endParaRPr b="1" lang="en-US" sz="12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2" name="Picture 4" descr="kizhi6"/>
          <p:cNvPicPr/>
          <p:nvPr/>
        </p:nvPicPr>
        <p:blipFill>
          <a:blip r:embed="rId7"/>
          <a:srcRect l="0" t="0" r="14724" b="15039"/>
          <a:stretch/>
        </p:blipFill>
        <p:spPr>
          <a:xfrm>
            <a:off x="3505320" y="3048120"/>
            <a:ext cx="54100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18c7b"/>
                </a:solidFill>
                <a:latin typeface="Arial Rounded MT Bold"/>
              </a:rPr>
              <a:t>Люди Московского государства славились своим трудолюбием, мастерством и мудростью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4" name="Rectangle 4"/>
          <p:cNvSpPr/>
          <p:nvPr/>
        </p:nvSpPr>
        <p:spPr>
          <a:xfrm>
            <a:off x="1080" y="6445080"/>
            <a:ext cx="50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- А что за люди тогда жили?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формулируйте тему урок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38512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Земля и люди </a:t>
            </a:r>
            <a:br>
              <a:rPr sz="8800"/>
            </a:br>
            <a:r>
              <a:rPr b="1" lang="ru-RU" sz="8800" spc="-1" strike="noStrike">
                <a:solidFill>
                  <a:srgbClr val="ffff4a"/>
                </a:solidFill>
                <a:latin typeface="Monotype Corsiva"/>
              </a:rPr>
              <a:t>Московского государства</a:t>
            </a: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4:09:24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