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D556-22B0-4E68-B62F-AE9DAA41F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9EC0-2CEC-4923-8F25-944AC5421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B789-A1FB-4358-9905-A35EB27F2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25EB-061A-47C5-A935-3A288D6E4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30199-A6E4-408A-B9A2-2C5A2651B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CC03D-A991-428F-B527-B23730FC3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99631-6C19-4590-A6EF-385116F36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BBA18-B195-41AE-835F-F8B061AFB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D79DE-3DED-44BC-A5E1-C1AA620F4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E2F90-F2E4-47C0-B9D6-A98B85B60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72553-2C88-43B4-9162-AFAEAD03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F923-448E-4727-A3A0-22B316BBF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83178-6F66-4D02-858A-328DA8C5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4C6AC-6946-4B77-AFE6-602A286A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A36CF-655E-4ED8-9397-ED3B6FFF2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22909-D942-45E9-A49A-50B6B245F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A5811-7103-443F-B79D-2F59E2925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50E4-2EBA-416B-A095-5AA9E7AA5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A760-8EEB-42DB-9AD6-AC4BB346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BCC6-DED3-425F-8683-75313C4ED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BA68-F6A7-42D1-8C13-DB4D00A5C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0BAC-506D-4987-B3F7-787607FC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C2B4-2E5A-4EC9-9A55-73065377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6661-9041-4F49-9E75-4150AA5B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00301-DF9E-4251-AD74-FB3D4C861F5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E3411-9BB3-446D-8A82-CF730ED9F11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река времени"/>
          <p:cNvPicPr/>
          <p:nvPr/>
        </p:nvPicPr>
        <p:blipFill>
          <a:blip r:embed="rId1">
            <a:lum bright="-12000"/>
          </a:blip>
          <a:srcRect l="4724" t="10366" r="7874" b="6695"/>
          <a:stretch/>
        </p:blipFill>
        <p:spPr>
          <a:xfrm>
            <a:off x="1752480" y="0"/>
            <a:ext cx="5588280" cy="6040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-5400" y="6064920"/>
            <a:ext cx="5097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Чем заканчиваются времена московского государства?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Как называется следующий отрезок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Река делает крутой поворот. С чьим именем это связано?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838080"/>
            <a:ext cx="422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ang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То академик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  </a:t>
            </a: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то герой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То мореплаватель,                        то плотни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Он всеобъемлющей душ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На троне вечный был работни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        </a:t>
            </a: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А.С.Пушк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4" descr="img3"/>
          <p:cNvPicPr/>
          <p:nvPr/>
        </p:nvPicPr>
        <p:blipFill>
          <a:blip r:embed="rId1"/>
          <a:stretch/>
        </p:blipFill>
        <p:spPr>
          <a:xfrm>
            <a:off x="5257800" y="914400"/>
            <a:ext cx="3343320" cy="5256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4"/>
          <p:cNvSpPr txBox="1"/>
          <p:nvPr/>
        </p:nvSpPr>
        <p:spPr>
          <a:xfrm>
            <a:off x="914400" y="152280"/>
            <a:ext cx="67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ётр Перв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4038840" cy="44942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560" y="6505200"/>
            <a:ext cx="39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Какие преобразования задумал Петр?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345440" cy="4719600"/>
          </a:xfrm>
          <a:prstGeom prst="rect">
            <a:avLst/>
          </a:prstGeom>
          <a:ln w="0">
            <a:noFill/>
          </a:ln>
        </p:spPr>
      </p:pic>
      <p:sp>
        <p:nvSpPr>
          <p:cNvPr id="115" name="WordArt 4"/>
          <p:cNvSpPr txBox="1"/>
          <p:nvPr/>
        </p:nvSpPr>
        <p:spPr>
          <a:xfrm>
            <a:off x="1447920" y="304920"/>
            <a:ext cx="6173640" cy="119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Создана армия </a:t>
            </a:r>
            <a:endParaRPr b="1" lang="en-US" sz="4400" spc="1" strike="noStrike">
              <a:ln w="0">
                <a:noFill/>
              </a:ln>
              <a:solidFill>
                <a:srgbClr val="ffff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cover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"/>
          <p:cNvPicPr/>
          <p:nvPr/>
        </p:nvPicPr>
        <p:blipFill>
          <a:blip r:embed="rId1"/>
          <a:srcRect l="0" t="2083" r="0" b="0"/>
          <a:stretch/>
        </p:blipFill>
        <p:spPr>
          <a:xfrm>
            <a:off x="914400" y="1905120"/>
            <a:ext cx="3497400" cy="3581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"/>
          <p:cNvPicPr/>
          <p:nvPr/>
        </p:nvPicPr>
        <p:blipFill>
          <a:blip r:embed="rId2"/>
          <a:srcRect l="0" t="2322" r="4190" b="2322"/>
          <a:stretch/>
        </p:blipFill>
        <p:spPr>
          <a:xfrm>
            <a:off x="4572000" y="2666880"/>
            <a:ext cx="4191120" cy="3124440"/>
          </a:xfrm>
          <a:prstGeom prst="rect">
            <a:avLst/>
          </a:prstGeom>
          <a:ln w="0">
            <a:noFill/>
          </a:ln>
        </p:spPr>
      </p:pic>
      <p:sp>
        <p:nvSpPr>
          <p:cNvPr id="118" name="WordArt 5"/>
          <p:cNvSpPr txBox="1"/>
          <p:nvPr/>
        </p:nvSpPr>
        <p:spPr>
          <a:xfrm>
            <a:off x="1692360" y="620640"/>
            <a:ext cx="5543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Промышленность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6324120"/>
            <a:ext cx="876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Как вы думаете, могут ли преобразования обходиться легко для народа?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985080" cy="4518000"/>
          </a:xfrm>
          <a:prstGeom prst="rect">
            <a:avLst/>
          </a:prstGeom>
          <a:ln w="0">
            <a:noFill/>
          </a:ln>
        </p:spPr>
      </p:pic>
      <p:sp>
        <p:nvSpPr>
          <p:cNvPr id="122" name="WordArt 6"/>
          <p:cNvSpPr txBox="1"/>
          <p:nvPr/>
        </p:nvSpPr>
        <p:spPr>
          <a:xfrm>
            <a:off x="1676520" y="380880"/>
            <a:ext cx="55432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Создан флот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ipe dir="d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98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3"/>
          <p:cNvSpPr txBox="1"/>
          <p:nvPr/>
        </p:nvSpPr>
        <p:spPr>
          <a:xfrm>
            <a:off x="539640" y="228600"/>
            <a:ext cx="7704360" cy="601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оссия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евратилась 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ильнейшее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осударство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zoom dir="ou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8" descr=""/>
          <p:cNvPicPr/>
          <p:nvPr/>
        </p:nvPicPr>
        <p:blipFill>
          <a:blip r:embed="rId1"/>
          <a:stretch/>
        </p:blipFill>
        <p:spPr>
          <a:xfrm>
            <a:off x="5334120" y="3962520"/>
            <a:ext cx="2971800" cy="2219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419720" y="2285640"/>
            <a:ext cx="495288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Андреевский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 флаг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1640" y="4191120"/>
            <a:ext cx="367524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66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7" descr=""/>
          <p:cNvPicPr/>
          <p:nvPr/>
        </p:nvPicPr>
        <p:blipFill>
          <a:blip r:embed="rId2"/>
          <a:srcRect l="7702" t="20522" r="7702" b="25653"/>
          <a:stretch/>
        </p:blipFill>
        <p:spPr>
          <a:xfrm>
            <a:off x="609480" y="1905120"/>
            <a:ext cx="3353040" cy="21333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2"/>
          <p:cNvSpPr/>
          <p:nvPr/>
        </p:nvSpPr>
        <p:spPr>
          <a:xfrm>
            <a:off x="-228600" y="304920"/>
            <a:ext cx="495288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Российский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флаг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533680" cy="2819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6248520" y="228600"/>
            <a:ext cx="2533680" cy="2819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"/>
          <p:cNvPicPr/>
          <p:nvPr/>
        </p:nvPicPr>
        <p:blipFill>
          <a:blip r:embed="rId3"/>
          <a:stretch/>
        </p:blipFill>
        <p:spPr>
          <a:xfrm>
            <a:off x="3048120" y="1676520"/>
            <a:ext cx="3047760" cy="3392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4"/>
          <a:stretch/>
        </p:blipFill>
        <p:spPr>
          <a:xfrm>
            <a:off x="304920" y="3505320"/>
            <a:ext cx="2533680" cy="2819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5"/>
          <a:stretch/>
        </p:blipFill>
        <p:spPr>
          <a:xfrm>
            <a:off x="6324480" y="3505320"/>
            <a:ext cx="25336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  <a:ea typeface="Arial"/>
              </a:rPr>
              <a:t>Академия наук</a:t>
            </a:r>
            <a:endParaRPr b="1" lang="en-US" sz="6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4800240"/>
            <a:ext cx="85345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ffcc66"/>
                </a:solidFill>
                <a:latin typeface="Arial"/>
                <a:ea typeface="Arial"/>
              </a:rPr>
              <a:t>Основана в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1725</a:t>
            </a:r>
            <a:r>
              <a:rPr b="1" lang="ru-RU" sz="3200" spc="-1" strike="noStrike">
                <a:solidFill>
                  <a:srgbClr val="ffcc66"/>
                </a:solidFill>
                <a:latin typeface="Arial"/>
                <a:ea typeface="Arial"/>
              </a:rPr>
              <a:t> году по распоряжению Петра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 I</a:t>
            </a:r>
            <a:r>
              <a:rPr b="1" lang="ru-RU" sz="3200" spc="-1" strike="noStrike">
                <a:solidFill>
                  <a:srgbClr val="ffcc66"/>
                </a:solidFill>
                <a:latin typeface="Arial"/>
                <a:ea typeface="Arial"/>
              </a:rPr>
              <a:t>.                                                                                      Она называлась Императорская академия наук и художеств</a:t>
            </a:r>
            <a:r>
              <a:rPr b="1" i="1" lang="ru-RU" sz="3200" spc="-1" strike="noStrike">
                <a:solidFill>
                  <a:srgbClr val="ffcc66"/>
                </a:solidFill>
                <a:latin typeface="Times New Roman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rcRect l="0" t="0" r="0" b="32828"/>
          <a:stretch/>
        </p:blipFill>
        <p:spPr>
          <a:xfrm>
            <a:off x="2057400" y="1752480"/>
            <a:ext cx="5181480" cy="2598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4-01T18:52:56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