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E6D-D571-41DD-AADF-E3D71AD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D6D-FEB3-4A1F-BCBC-B03DAE5B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9A618C-13AC-4900-96CA-87D1DC1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627C2-0E01-4AB0-A33D-50DF836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0D8D6C-15DE-4225-907E-B908B6B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432C51-A810-4165-AA15-E086DC47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EEBF26-CF2C-448F-A1EE-CBC93A7B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E2D5AB-1483-4E78-9A15-FD98F54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53A1D9-566E-470E-A40C-70B4B823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191FF-DBDD-4069-B70E-F1BDD4D4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1FB751-CA6C-45D0-BD33-D907353C1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15B-177C-4F8F-8A75-F98459F4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384D-C9F1-4BF2-91E6-A01531B4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B8590-2C4F-4CB0-8FF3-D19618BC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883B8-DA45-46C1-B731-48B7D462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4DACB-DBD9-4341-8F68-697B0E5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3A1BF-5306-4199-B13A-C9E2BED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94EF1-6D01-4CEF-8661-2B8EB85D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13320-0F91-43AF-96D4-8B631F6D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7D3E-1288-470E-BB49-CB4E5B04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666F-8358-4C09-9FCF-BDF929E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A5685-A513-4D00-A33B-446E9A75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81972-66E6-467F-A57F-AA643BF1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0B2EB-5D9B-4239-9979-616AA959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BC121-9050-454C-B749-A342A02C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4FC85-252C-4C34-8D81-E9A50E2A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94ABB-63EE-4D6A-9AD3-22AB7C5A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6BB05-6158-4DAA-B4BC-A9BB6185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4F220-87E0-4875-B716-52644379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2AF3B-8EE6-4B4B-9CE8-1288C51F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AF440-F6F0-44A8-89FC-B673C06B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434-8DCB-4F0E-96B4-DA418C99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1D83-69A2-4D50-A546-0BAEC80A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8909-C517-4350-8C7E-0885A788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D855B-A378-40B3-9340-FE138685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96AB7-FC29-4CFA-900B-5BDD355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F327-F962-4660-A9B8-7378DF49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5C91-5E53-4001-AC40-F0EC226C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68EC-55BD-4A1C-9D5C-7D9BAA6D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0A23AC-7E2B-4960-97AC-CF87D980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5DC11-CF94-46A3-829D-99D02BB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1C681-9F67-47DE-ADE1-F283289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8C57-772E-491F-B947-A7702440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04003-A2AB-45E5-B50D-9657A254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E7EFC-8FF7-499B-ABF2-871C82A3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1E45F-49A1-4D51-AB45-E8CAE8D0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27C6C0-5701-452D-83CC-796A4D07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58CF5F-67EB-40FE-A8C9-79C31A8E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B9CBB3-4E72-41E4-A1FD-506806B5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DB0B7-95A6-4030-BE90-411E4B8E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2C9C1-5A73-402E-9DE2-5E469CE6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D653C-2268-45B7-B7A8-48EE5BE0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96244-5D84-4F10-B0BC-4F5298901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D1B-D1E5-47CF-A3A3-791E81B3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800EC-FE3C-4D5E-8404-E53D3F76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A22C5-01BA-4BC2-94C1-9492FD1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FF3E6-6DCE-4C44-B5A0-344F0C32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0D499-F683-42AF-B6F0-AB2AACB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D19A0-51EB-48EA-896D-DEABD23A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54BAA-760C-4953-91D4-858854F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A59D-9406-4EEB-9D32-6A7A293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835EC-5F41-4071-9821-3CBE29D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93FB0-6576-4BC5-A5A2-E9BEDAC6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74E04-740B-4715-8419-A21F722C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8A2-004E-46FF-82A2-FFE14B0C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B2DBB-4341-4588-B3A6-3A43B978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A76C3-0675-49D8-853E-230E0DE8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08622-9207-444B-8927-98E57C8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43A19-90C9-43EC-BE0F-2F84213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06D30-D72D-435B-92AF-E7D75132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9404-592D-450B-A3F8-BAD6054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A319-D771-4CF6-85C0-4D4B4146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10DA-CE50-4A11-BB3C-D95F0CB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2ABD6-3432-4A45-ACD8-37643737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3FA78-BDA5-4BDB-9C76-7D2B217C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B24-60FE-483C-BE4F-0B8C328B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7B062-36D5-43BD-ABDA-0886017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B214-9B6A-456E-965B-64C42E8D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D6A67-0DFF-45B1-A84A-C233838F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CE4E-5DB6-4858-9EF6-321AA6CB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27FBE-4701-4E27-B84A-5F1715C3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F2EBF-A89D-40E6-9425-B2F12D0F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1F91-5977-423B-AD4C-B38999B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4BE75-46AF-41A5-B213-6E459558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3CDEE-E664-4DA0-9BAC-9E2BA45A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28DF-DB0E-4881-957F-366CF807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C2E-1417-4D3F-A348-9FBDB799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DAC0F-EEC0-46C3-9FDB-AEE8E37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1EBA9-D875-4A57-BD40-3C185DBF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79C44-04D1-49BA-AA05-7B9B071D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BFA12-CBED-4A71-9D66-BCA9A03E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6F79-8355-4E80-886A-5ED77232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740558-3E12-4717-9A57-388F28403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B49AC-6947-4BE9-8B29-4800CBA5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25A0D-F961-4CE8-99BA-C1861036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70EA7-B7AB-462A-878A-4F671B95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DE6BD-FA15-44DD-B9FF-2DFAC550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AB6E-70A7-4A4D-89DE-D11C2AC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D76C3C-E53D-4849-B74A-4A8D9845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4964FA-AD0E-45E5-B729-DDCF96AF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F0988-B87F-4281-AC49-BE79747A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D16B7D-066E-4673-9B11-40092B4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0A720E-D4B4-496D-BB6B-3F087C9F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F7052-3A77-41C2-A89F-90ADD806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05418-B55A-4437-86D2-1AA7C878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36AF33-B63B-4272-BF15-AAEE20D2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8F61AE-70BF-4139-B02D-9E644B17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2D5F7D-E69B-458D-8827-5CFBB67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644-E076-4153-AA79-AB44BA88904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8" name="Прямоугольник с двумя скругленными противолежащими углами 7" descr=""/>
            <p:cNvPicPr/>
            <p:nvPr/>
          </p:nvPicPr>
          <p:blipFill>
            <a:blip r:embed="rId4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786E-BBEF-476F-9D34-E9305911609B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648-3B6B-4918-8A3F-4E20194B7E3A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4FC-1D84-417C-81E5-190F69E97E37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8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7E93-0A77-463B-9E2F-88E864C8CDD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88EC-B8E9-49E5-9DA0-634A6FC9C92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7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AEAB-1525-46F8-A80D-7FB9C4820544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1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F96C-5CCE-4AEC-A7F8-D6FBB7839058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6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Cambri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54D4-BAB2-49DE-9464-974C2855230C}" type="slidenum">
              <a:rPr b="0" lang="ru-RU" sz="1600" spc="-1" strike="noStrike">
                <a:solidFill>
                  <a:srgbClr val="dfe0d4"/>
                </a:solidFill>
                <a:latin typeface="Cambr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017960" y="1316160"/>
            <a:ext cx="4218120" cy="32004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2"/>
          <a:srcRect l="22719" t="12251" r="25036" b="14260"/>
          <a:stretch/>
        </p:blipFill>
        <p:spPr>
          <a:xfrm>
            <a:off x="857160" y="1000080"/>
            <a:ext cx="3071880" cy="4357800"/>
          </a:xfrm>
          <a:prstGeom prst="rect">
            <a:avLst/>
          </a:prstGeom>
          <a:ln w="0">
            <a:noFill/>
          </a:ln>
        </p:spPr>
      </p:pic>
      <p:sp>
        <p:nvSpPr>
          <p:cNvPr id="408" name="Прямоугольник 3"/>
          <p:cNvSpPr/>
          <p:nvPr/>
        </p:nvSpPr>
        <p:spPr>
          <a:xfrm>
            <a:off x="71280" y="571500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ый 1812 год. Он связан с нашествием Наполеона. Несколько блестящих побед сделали его одним из самых известных людей Франции. Наполеон стремился к всемирному господств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07084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3"/>
          <p:cNvSpPr/>
          <p:nvPr/>
        </p:nvSpPr>
        <p:spPr>
          <a:xfrm>
            <a:off x="0" y="591300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страны, подвластные Наполеону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е страны не покорились Наполеону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Что оберегало Англию от сильной французской арми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-60480" y="244440"/>
            <a:ext cx="9990360" cy="48704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221040" y="6357960"/>
            <a:ext cx="37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означает название темы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281160" y="4925880"/>
            <a:ext cx="8484840" cy="1157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2214720" y="285840"/>
            <a:ext cx="3927240" cy="50720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4"/>
          <p:cNvSpPr/>
          <p:nvPr/>
        </p:nvSpPr>
        <p:spPr>
          <a:xfrm>
            <a:off x="142920" y="602856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в армии, и в народе всё чаще, всё громче говорили о полководце, который поведёт русские войска к победе, к спасению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3" descr="C:\Documents and Settings\Admin\Рабочий стол\200px-Kutuzovborodino.jpg"/>
          <p:cNvPicPr/>
          <p:nvPr/>
        </p:nvPicPr>
        <p:blipFill>
          <a:blip r:embed="rId1"/>
          <a:stretch/>
        </p:blipFill>
        <p:spPr>
          <a:xfrm>
            <a:off x="285840" y="285840"/>
            <a:ext cx="4795920" cy="3500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Documents and Settings\Admin\Рабочий стол\200px-Vereshagin.Napoleon_near_Borodino.jpg"/>
          <p:cNvPicPr/>
          <p:nvPr/>
        </p:nvPicPr>
        <p:blipFill>
          <a:blip r:embed="rId2"/>
          <a:srcRect l="7795" t="0" r="0" b="0"/>
          <a:stretch/>
        </p:blipFill>
        <p:spPr>
          <a:xfrm>
            <a:off x="4000680" y="3143160"/>
            <a:ext cx="4827240" cy="342900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оугольник 4"/>
          <p:cNvSpPr/>
          <p:nvPr/>
        </p:nvSpPr>
        <p:spPr>
          <a:xfrm>
            <a:off x="4714920" y="5716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М. И. Кутуз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 командном пункт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в ден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Бородинского с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5"/>
          <p:cNvSpPr/>
          <p:nvPr/>
        </p:nvSpPr>
        <p:spPr>
          <a:xfrm>
            <a:off x="571680" y="4357800"/>
            <a:ext cx="3071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Наполе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осматривает позиции предстоящего бо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3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00160" y="187200"/>
            <a:ext cx="8756640" cy="3356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357120" y="3714840"/>
            <a:ext cx="4200480" cy="27860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5"/>
          <p:cNvSpPr/>
          <p:nvPr/>
        </p:nvSpPr>
        <p:spPr>
          <a:xfrm>
            <a:off x="4714920" y="3500280"/>
            <a:ext cx="3429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Бороди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было самым кровопролитным за всю историю вой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4643280" y="58050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происходило над полем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глядел бой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352600" y="480960"/>
            <a:ext cx="4413240" cy="1311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"/>
          <p:cNvPicPr/>
          <p:nvPr/>
        </p:nvPicPr>
        <p:blipFill>
          <a:blip r:embed="rId2"/>
          <a:stretch/>
        </p:blipFill>
        <p:spPr>
          <a:xfrm>
            <a:off x="5643720" y="4357800"/>
            <a:ext cx="3174840" cy="2260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"/>
          <p:cNvPicPr/>
          <p:nvPr/>
        </p:nvPicPr>
        <p:blipFill>
          <a:blip r:embed="rId3"/>
          <a:srcRect l="17873" t="12303" r="17873" b="16938"/>
          <a:stretch/>
        </p:blipFill>
        <p:spPr>
          <a:xfrm>
            <a:off x="173160" y="173160"/>
            <a:ext cx="1898640" cy="242712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4"/>
          <p:cNvSpPr/>
          <p:nvPr/>
        </p:nvSpPr>
        <p:spPr>
          <a:xfrm>
            <a:off x="2000160" y="1714680"/>
            <a:ext cx="56437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кажи-ка, дядя, ведь не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, спаленная пожар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цузу отдан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ь были ж схватки боевы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, говорят, еще как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аром помнит вся Рос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 день Бороди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072120" y="285840"/>
            <a:ext cx="2772000" cy="30844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631960" cy="2928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285840" y="285840"/>
            <a:ext cx="2695320" cy="300024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214200" y="3500280"/>
            <a:ext cx="264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Отряд крестьян, отлично знающих все тропинки в лесу, выслеживает отступающих францу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2357280" y="5572080"/>
            <a:ext cx="50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Д. В. Давыдов — партизан-герой Отечественной войны 181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5214960" y="364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падение партиз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на французский об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Прямоугольник 7"/>
          <p:cNvSpPr/>
          <p:nvPr/>
        </p:nvSpPr>
        <p:spPr>
          <a:xfrm>
            <a:off x="0" y="6357960"/>
            <a:ext cx="87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весь народ поднялся на борьбу с захватчикам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858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Отечественная войн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mbria"/>
              </a:rPr>
              <a:t>1812 года</a:t>
            </a:r>
            <a:endParaRPr b="0" lang="en-US" sz="6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6" name="Прямоугольник 2"/>
          <p:cNvSpPr/>
          <p:nvPr/>
        </p:nvSpPr>
        <p:spPr>
          <a:xfrm>
            <a:off x="357120" y="621504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 можно назвать войну, в которой люди защищают свою Родину, свое Отечество?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3:53:00Z</dcterms:modified>
  <cp:revision>16</cp:revision>
  <dc:subject/>
  <dc:title>Слайд 1</dc:title>
</cp:coreProperties>
</file>